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549-3CB0-4A5E-9BB7-E1B1F23A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EC19-69B1-4E04-A382-A45EE77F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3A0-5D6B-4F7A-A849-CEB8B2E3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45E-E2BA-489E-BB3A-3AEFCC46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49FD-8ED0-4BF6-B9B0-365CC161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5160-8670-47DD-906E-CB79F898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E889-32E3-45D5-9F41-04C52619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BD2F-1429-435E-8C91-5EA27234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ED90-B54E-4FBC-B793-DB31252D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4767-2833-450D-BCB2-4BC0AF3C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30AB-082F-4485-BC6F-B7AFFC3B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CC79-8FA0-4DF8-9143-81C558B5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9F3C-1FE7-4558-B7A9-CEAD6451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1053-6C9A-4B52-ADC7-1906F72E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44FF-59C9-4CEC-A885-55C96726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07A6-A51D-4E49-9BC9-867702CE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4D72-F786-4F35-8150-0300A300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3967-86D2-4009-9218-D5D308C0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10D-F90C-449A-A004-951FD70D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EBD6-FF12-4035-AB68-9B4DDC98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1E7-4123-444F-94E4-A7DFA5AA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932E-989C-4B33-B53E-ECE02431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F0A-D75F-49FB-9BC4-8C1F9671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042-EC5E-4311-8C6B-BD6DFAF0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E96C-5F98-4506-AAFE-36EA29296ED8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26EC-EEBB-4BC2-9D1D-60B564B00D5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E5C9-7B49-4A02-AE23-6A8AC612B77F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723E-A680-4603-A3B5-7C4C7DF25EB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Virtual Environment Team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 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R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9925-8846-4575-9B49-020E1353731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AA232A7-E1FC-4A0C-90CA-86C295EE8D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resource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rge LCD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y sti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design drawings from H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730-447C-4085-BA6A-7AEC86B3C25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B696C-688C-45CA-B628-09F2D192C6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Vision…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virtual model creation process to interactively aid in the design, build, and realization phase of a hospital construction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10641" t="0" r="6388" b="0"/>
          <a:stretch/>
        </p:blipFill>
        <p:spPr>
          <a:xfrm>
            <a:off x="304920" y="3809880"/>
            <a:ext cx="3352680" cy="239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19920" y="3809880"/>
            <a:ext cx="2603520" cy="253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3809880" y="4343400"/>
            <a:ext cx="1981440" cy="1143000"/>
          </a:xfrm>
          <a:prstGeom prst="leftRightArrow">
            <a:avLst>
              <a:gd name="adj1" fmla="val 50000"/>
              <a:gd name="adj2" fmla="val 3451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3C5E-312F-4B96-A26B-217FF931472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7B5FD-EA2E-4586-9E90-0D57E7FCB1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Hospital Design &amp; Build Proces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581280"/>
            <a:ext cx="7619760" cy="5335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191120" y="3649680"/>
            <a:ext cx="533160" cy="388800"/>
            <a:chOff x="4191120" y="3649680"/>
            <a:chExt cx="533160" cy="388800"/>
          </a:xfrm>
        </p:grpSpPr>
        <p:sp>
          <p:nvSpPr>
            <p:cNvPr id="105" name=""/>
            <p:cNvSpPr/>
            <p:nvPr/>
          </p:nvSpPr>
          <p:spPr>
            <a:xfrm>
              <a:off x="4191120" y="36496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91120" y="3657600"/>
              <a:ext cx="3045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620120" y="3649680"/>
            <a:ext cx="533160" cy="388800"/>
            <a:chOff x="7620120" y="3649680"/>
            <a:chExt cx="533160" cy="388800"/>
          </a:xfrm>
        </p:grpSpPr>
        <p:sp>
          <p:nvSpPr>
            <p:cNvPr id="108" name=""/>
            <p:cNvSpPr/>
            <p:nvPr/>
          </p:nvSpPr>
          <p:spPr>
            <a:xfrm>
              <a:off x="7620120" y="36496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0120" y="3657600"/>
              <a:ext cx="3045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048120" y="1752480"/>
            <a:ext cx="3047760" cy="1191240"/>
          </a:xfrm>
          <a:prstGeom prst="borderCallout2">
            <a:avLst>
              <a:gd name="adj1" fmla="val 18750"/>
              <a:gd name="adj2" fmla="val -8333"/>
              <a:gd name="adj3" fmla="val 9523"/>
              <a:gd name="adj4" fmla="val -44375"/>
              <a:gd name="adj5" fmla="val 156736"/>
              <a:gd name="adj6" fmla="val -63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ign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nnect between designers and end-users (care-give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4495680"/>
            <a:ext cx="3179880" cy="1465560"/>
          </a:xfrm>
          <a:prstGeom prst="borderCallout2">
            <a:avLst>
              <a:gd name="adj1" fmla="val 18750"/>
              <a:gd name="adj2" fmla="val -8333"/>
              <a:gd name="adj3" fmla="val 6532"/>
              <a:gd name="adj4" fmla="val 115078"/>
              <a:gd name="adj5" fmla="val -26912"/>
              <a:gd name="adj6" fmla="val 1281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ild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to no way-finding training provided before move-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process plan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4876920"/>
            <a:ext cx="3505320" cy="1739880"/>
          </a:xfrm>
          <a:prstGeom prst="borderCallout2">
            <a:avLst>
              <a:gd name="adj1" fmla="val 18750"/>
              <a:gd name="adj2" fmla="val -8333"/>
              <a:gd name="adj3" fmla="val 6532"/>
              <a:gd name="adj4" fmla="val 104300"/>
              <a:gd name="adj5" fmla="val -49625"/>
              <a:gd name="adj6" fmla="val 106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ccupancy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patient interaction outside of hos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to no way-finding training provided before vis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90720" y="3657600"/>
            <a:ext cx="533160" cy="380880"/>
            <a:chOff x="990720" y="3657600"/>
            <a:chExt cx="533160" cy="380880"/>
          </a:xfrm>
        </p:grpSpPr>
        <p:sp>
          <p:nvSpPr>
            <p:cNvPr id="114" name=""/>
            <p:cNvSpPr/>
            <p:nvPr/>
          </p:nvSpPr>
          <p:spPr>
            <a:xfrm>
              <a:off x="990720" y="365760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0720" y="3657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191120" y="3657600"/>
            <a:ext cx="533160" cy="380880"/>
            <a:chOff x="4191120" y="3657600"/>
            <a:chExt cx="533160" cy="380880"/>
          </a:xfrm>
        </p:grpSpPr>
        <p:sp>
          <p:nvSpPr>
            <p:cNvPr id="117" name=""/>
            <p:cNvSpPr/>
            <p:nvPr/>
          </p:nvSpPr>
          <p:spPr>
            <a:xfrm>
              <a:off x="4191120" y="365760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91120" y="3657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20120" y="3657600"/>
            <a:ext cx="533160" cy="380880"/>
            <a:chOff x="7620120" y="3657600"/>
            <a:chExt cx="533160" cy="380880"/>
          </a:xfrm>
        </p:grpSpPr>
        <p:sp>
          <p:nvSpPr>
            <p:cNvPr id="120" name=""/>
            <p:cNvSpPr/>
            <p:nvPr/>
          </p:nvSpPr>
          <p:spPr>
            <a:xfrm>
              <a:off x="7620120" y="365760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0120" y="3657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1684-B843-418F-837F-BEECDECCA0C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3A8F9-94D8-4EA1-92EF-3AE11EB4CE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6633"/>
                </a:solidFill>
                <a:latin typeface="Arial"/>
              </a:rPr>
              <a:t>Vision throughout design &amp; build process…</a:t>
            </a:r>
            <a:endParaRPr b="0" lang="en-US" sz="25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6019920"/>
            <a:ext cx="6248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914400" y="22860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6064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pital Design &amp; Build Process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600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odel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066680" y="2057040"/>
            <a:ext cx="4724640" cy="3962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371600" y="5486400"/>
            <a:ext cx="533160" cy="380880"/>
            <a:chOff x="1371600" y="5486400"/>
            <a:chExt cx="533160" cy="380880"/>
          </a:xfrm>
        </p:grpSpPr>
        <p:sp>
          <p:nvSpPr>
            <p:cNvPr id="129" name=""/>
            <p:cNvSpPr/>
            <p:nvPr/>
          </p:nvSpPr>
          <p:spPr>
            <a:xfrm>
              <a:off x="1371600" y="548640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71600" y="54864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819520" y="4267080"/>
            <a:ext cx="533160" cy="380880"/>
            <a:chOff x="2819520" y="4267080"/>
            <a:chExt cx="533160" cy="380880"/>
          </a:xfrm>
        </p:grpSpPr>
        <p:sp>
          <p:nvSpPr>
            <p:cNvPr id="132" name=""/>
            <p:cNvSpPr/>
            <p:nvPr/>
          </p:nvSpPr>
          <p:spPr>
            <a:xfrm>
              <a:off x="2819520" y="426708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19520" y="42670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724280" y="2666880"/>
            <a:ext cx="533160" cy="380880"/>
            <a:chOff x="4724280" y="2666880"/>
            <a:chExt cx="533160" cy="380880"/>
          </a:xfrm>
        </p:grpSpPr>
        <p:sp>
          <p:nvSpPr>
            <p:cNvPr id="135" name=""/>
            <p:cNvSpPr/>
            <p:nvPr/>
          </p:nvSpPr>
          <p:spPr>
            <a:xfrm>
              <a:off x="4724280" y="266688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24280" y="26668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676520" y="5486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in optimizing design before it’s bui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4267080"/>
            <a:ext cx="358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 way-finding tran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 Process Effici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590920"/>
            <a:ext cx="4114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 interaction between patients, nurs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ly educate on way-f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ert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423C-396D-4C6E-8D90-2D440A0E4F1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7ADAF-1186-4098-B35B-B1142FDF93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.Design Phas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o increase effectiveness with designing better workplaces by integrating verbal and behavioral feedbacks from nur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8.9% of nursing staff time was spent walking (Burgio et al. 19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impact of unit layout on the amount of time spent walking (Shepley 2002; Shepley and Davies 2003; Sturdavant 1960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6B3-B712-492D-B9C9-278E771CFC4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9233D-56CD-44DE-95ED-EF3C9A41A7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. Design phas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9640" y="4797360"/>
            <a:ext cx="2376720" cy="1362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58920" y="3645000"/>
            <a:ext cx="136692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3708360" y="3668760"/>
          <a:ext cx="4319640" cy="288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3668760"/>
                    <a:ext cx="4319640" cy="28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57200" y="1600200"/>
            <a:ext cx="77868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rses are randomly assigned to different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asked to explore the unit and perform several medic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stances and time used, and their verbal feedbacks are coll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4581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5661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083-39BD-454E-A3DD-67E9FC8A03F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53C66-AACD-424C-93D5-558641BE0C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. Build Phas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way-finding tran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process efficiencies and reduce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eople with virtual environment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raining outperform people without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666633"/>
                </a:solidFill>
                <a:latin typeface="Arial"/>
              </a:rPr>
              <a:t>times to perform route task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666633"/>
                </a:solidFill>
                <a:latin typeface="Arial"/>
              </a:rPr>
              <a:t>left-right directional judg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Hunt, M. E. (1984), Foreman, N., et al, (2005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BE44-07B9-4620-BCCF-ABB93CEDD44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81169-DF8B-4C15-9AB0-02F1A05189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. Build Phas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rses will be trained to perform medical tasks with the optimized routes before they move into new buildin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nurses may have different tasks/ desti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12810" t="0" r="31672" b="23955"/>
          <a:stretch/>
        </p:blipFill>
        <p:spPr>
          <a:xfrm>
            <a:off x="3780000" y="3429000"/>
            <a:ext cx="4267080" cy="2735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00000" y="3860640"/>
            <a:ext cx="25923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rse in ICU will be trained to locate key location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ain peopl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16360" y="4221000"/>
            <a:ext cx="360360" cy="21600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1640" y="4724280"/>
            <a:ext cx="360360" cy="21600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5229360"/>
            <a:ext cx="360360" cy="21564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5229360"/>
            <a:ext cx="360360" cy="21564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5300640"/>
            <a:ext cx="287280" cy="28908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A1F2-735F-4CA7-9261-73E0A542068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A8EFD-FE46-4885-A796-77FE4CAA1D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666633"/>
                </a:solidFill>
                <a:latin typeface="Arial"/>
              </a:rPr>
              <a:t>3.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ccupancy Phas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ovide transparency of the environment to patients and vis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an use the virtual environment to know how to find key locations in the hospital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835280" y="3887640"/>
            <a:ext cx="6337080" cy="2970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227640" y="5661000"/>
            <a:ext cx="1224000" cy="72072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3860640"/>
            <a:ext cx="2160720" cy="120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: 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: 20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right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346-ED92-4289-A7BC-84CA519B1DB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C7877-BE81-4873-9882-5BB7AD2CF1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22:05:40Z</dcterms:created>
  <dc:creator>Lu, Yi</dc:creator>
  <dc:description/>
  <dc:language>en-US</dc:language>
  <cp:lastModifiedBy>Lu, Yi</cp:lastModifiedBy>
  <dcterms:modified xsi:type="dcterms:W3CDTF">2007-10-25T19:24:37Z</dcterms:modified>
  <cp:revision>5</cp:revision>
  <dc:subject/>
  <dc:title>Virtual Environment Team</dc:title>
</cp:coreProperties>
</file>